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B95-5D25-4F90-AD2B-6E8BE1F3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60B-E507-45B1-A7E4-AAD5E12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4C0-9E40-4A00-899D-E7FCBC20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56A-97F1-4E63-AA4D-BA44135C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A08-6B3C-4969-B402-77E8A4AC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EDE-D004-49D1-B746-A4A21CC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8F4-2A20-4697-92A2-01C7B9A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7B9-B4B1-4862-8578-18550921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F8A-C2F2-4899-946D-2844F0E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C5A-DF21-4BC8-AD55-CC91F83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68E-1703-4036-BC1D-26CD81F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514-F53E-43E1-BEF0-1077BB3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BEB5-DBCE-4E86-911C-364DFD8D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 and Linked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hort tutorial on linked lists in object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call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ly  unlim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ly Limited by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set of LOCAL variables at each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20" y="4149720"/>
            <a:ext cx="415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unction Factorial (Val:Integer)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Val&gt;0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:=Val * Factorial(Dec(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thod of managing dynam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useful when the view of the data depends on where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4200" y="393228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ta Bl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4560" y="465300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ta Bl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4920" y="537228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ta Bl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609300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ata Blk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22100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494172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73408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8160" y="34290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393372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65300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465300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522936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55040" y="522936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5877000"/>
            <a:ext cx="14889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429264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4941720"/>
            <a:ext cx="142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42210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16720" y="486900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6360" y="551664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4520" y="3429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ursion in linked list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440" y="4076640"/>
            <a:ext cx="349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MyBinTree.Destro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Left&lt;&gt;nil then FLeft.Fre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Right&lt;&gt;nil then FRight.Fre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heri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4520" y="3195720"/>
            <a:ext cx="469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MyBinTree.Insert(NewObject:TMyBinTre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Name&lt;NewObject.FNam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Left=Nil then FLeft:=New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 FLeft.Insert(New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Right=Nil then FRight:=New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 FRight.Insert(New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84280"/>
            <a:ext cx="56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MySimpleTree.Insert(NewObject:TMySimpleTre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FNext&lt;&gt;nil then FNext.Insert(New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 FNext:=New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880" y="1574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90160" y="15033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1920" y="2224080"/>
            <a:ext cx="380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cedure Push(ANew:TMyLL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ListTop=nil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stTop:=A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stTop.Insert(ANe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2205000"/>
            <a:ext cx="380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cedure Push(ANew:TMyLLOb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ew.Next:=List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stTop:=ANe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4508640"/>
            <a:ext cx="380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unction Pop:TMyLLOb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:= List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ListTop&lt;&gt;nil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stTop:=ListTop.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sult.Next:=n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dditiona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0" y="220500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378936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56536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443640" y="256536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443700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414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43640" y="414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501336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44364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566100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5373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43640" y="5373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6308640"/>
            <a:ext cx="1489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6021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43640" y="6021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90520" y="2924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50160" y="299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2349360"/>
            <a:ext cx="318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4720" y="2205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4581360"/>
            <a:ext cx="31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1880" y="4365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3560" y="6453360"/>
            <a:ext cx="31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6480" y="623736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sertion 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50920" y="4076640"/>
            <a:ext cx="3440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48360" y="59500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48360" y="53006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360" y="65977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19280" y="472428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48360" y="24922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1080" y="3860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random locations into rows and 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the outside cols/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nside cols/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794120"/>
            <a:ext cx="1488960" cy="219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797360"/>
            <a:ext cx="1488960" cy="219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797360"/>
            <a:ext cx="1488960" cy="219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4797360"/>
            <a:ext cx="1488960" cy="219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300640"/>
            <a:ext cx="1488960" cy="219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950080"/>
            <a:ext cx="148896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229360"/>
            <a:ext cx="148896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5734080"/>
            <a:ext cx="148896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6237360"/>
            <a:ext cx="148896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5229360"/>
            <a:ext cx="148896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 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4273560"/>
            <a:ext cx="4548240" cy="1273320"/>
          </a:xfrm>
          <a:custGeom>
            <a:avLst/>
            <a:gdLst/>
            <a:ahLst/>
            <a:rect l="l" t="t" r="r" b="b"/>
            <a:pathLst>
              <a:path w="2865" h="802">
                <a:moveTo>
                  <a:pt x="0" y="394"/>
                </a:moveTo>
                <a:cubicBezTo>
                  <a:pt x="971" y="398"/>
                  <a:pt x="1943" y="402"/>
                  <a:pt x="2404" y="394"/>
                </a:cubicBezTo>
                <a:cubicBezTo>
                  <a:pt x="2865" y="386"/>
                  <a:pt x="2728" y="401"/>
                  <a:pt x="2766" y="348"/>
                </a:cubicBezTo>
                <a:cubicBezTo>
                  <a:pt x="2804" y="295"/>
                  <a:pt x="2690" y="114"/>
                  <a:pt x="2630" y="76"/>
                </a:cubicBezTo>
                <a:cubicBezTo>
                  <a:pt x="2570" y="38"/>
                  <a:pt x="2449" y="0"/>
                  <a:pt x="2404" y="121"/>
                </a:cubicBezTo>
                <a:cubicBezTo>
                  <a:pt x="2359" y="242"/>
                  <a:pt x="2358" y="522"/>
                  <a:pt x="2358" y="80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1:25:46Z</dcterms:created>
  <dc:creator>.</dc:creator>
  <dc:description/>
  <dc:language>en-US</dc:language>
  <cp:lastModifiedBy>.</cp:lastModifiedBy>
  <dcterms:modified xsi:type="dcterms:W3CDTF">2005-04-17T03:10:54Z</dcterms:modified>
  <cp:revision>6</cp:revision>
  <dc:subject/>
  <dc:title>Recursion and Linked Lists</dc:title>
</cp:coreProperties>
</file>